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ct" ContentType="image/x-pict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8.pct" ContentType="image/x-pict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1D98-F737-4FE3-B246-BD5F025D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96F-12D4-4683-B50C-AA162CF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7CC-C0D8-4C5D-91FF-70BB4499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6FB-D1EC-4BA2-A533-95C63C10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8FB-AEC7-4AB0-B73B-1BD47335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9B01-41DC-4D98-AB0F-DAFB4BE9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377-4787-480F-9F8A-21DCDFD7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D3F4-B6E7-4AE2-811C-A4B3AEF7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5FC2-FFE9-4F3C-91BD-F528836C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B2C-5F02-4BB7-9657-7D4257FA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D7D5-108A-4919-8958-7C05915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BC88-1232-4BFF-9626-C23D28E6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9153-D91D-476A-BE6B-088EAEEBA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ife Cyc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lower Parts &amp;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952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name and explain the functions of some parts of a flower, and describe the processes of poll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1828800" cy="133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14156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9623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eeds are dispersed in many different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W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Hitchhi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19720" y="1600200"/>
            <a:ext cx="3809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How birds and animals help 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ome seeds are hidden in the ground as a winter st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ome fruits have hooks on them and cling to fur or clot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00600" y="300996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How birds and animals help seed disper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Birds and animals eat the fruits and excrete the seeds away from the parent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24280" y="240048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The Parts of a Fl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Most flowers hav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pe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stam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 pis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An 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Ovules (eg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The parts of a fl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Petals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attract insec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Stamens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make pol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Stigma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where pollen sticks on top of pis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24200"/>
                </a:solidFill>
                <a:latin typeface="Comic Sans MS"/>
              </a:rPr>
              <a:t>Pistil</a:t>
            </a:r>
            <a:r>
              <a:rPr b="0" lang="en-GB" sz="2800" spc="-1" strike="noStrike">
                <a:solidFill>
                  <a:srgbClr val="424200"/>
                </a:solidFill>
                <a:latin typeface="Comic Sans MS"/>
              </a:rPr>
              <a:t> where eggs and seeds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66880" y="2514600"/>
            <a:ext cx="3505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352680"/>
            <a:ext cx="3504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86200" y="411480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09680" y="3886200"/>
            <a:ext cx="4191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3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Sta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4200"/>
                </a:solidFill>
                <a:latin typeface="Comic Sans MS"/>
              </a:rPr>
              <a:t>Anther</a:t>
            </a: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: pollen grains grow in the an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When the grains are fully grown, the anther splits op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90920" y="2971800"/>
            <a:ext cx="3581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ist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Ov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09880" cy="35337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362320" y="2286000"/>
            <a:ext cx="4190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09680" y="3352680"/>
            <a:ext cx="4343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057400" y="3886200"/>
            <a:ext cx="4495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Flowering plants use the wind, insects, bats, birds and mammals to move pollen from the stamen the sti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4120" y="1523880"/>
            <a:ext cx="2438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A flower is pollinated when a pollen grain lands on its stig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The pollen travels down the pistil to the eggs in the ov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00"/>
                </a:solidFill>
                <a:latin typeface="Comic Sans MS"/>
              </a:rPr>
              <a:t>Eggs in the ovary grow into fruit which contains the see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267080" cy="3959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V="1">
            <a:off x="3276720" y="2666520"/>
            <a:ext cx="3504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Ferti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Pollen grains germinate on the stigma, growing down the pistil to the ovule in the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Fertilized ovules develop into se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 pistil get larger and turns into fruit to protect the ov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4200"/>
                </a:solidFill>
                <a:latin typeface="Comic Sans MS"/>
              </a:rPr>
              <a:t>Wind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Some flowers, like grasses, do not have brightly colored petals and nectar to attract inse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y do have stamens and ov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424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4200"/>
                </a:solidFill>
                <a:latin typeface="Comic Sans MS"/>
              </a:rPr>
              <a:t>These flowers are pollinated by the w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2T18:08:52Z</dcterms:created>
  <dc:creator>Diane Hawkins</dc:creator>
  <dc:description/>
  <dc:language>en-US</dc:language>
  <cp:lastModifiedBy>SD 34</cp:lastModifiedBy>
  <dcterms:modified xsi:type="dcterms:W3CDTF">2007-10-02T15:39:35Z</dcterms:modified>
  <cp:revision>20</cp:revision>
  <dc:subject/>
  <dc:title>Reproduction in Flowering Plants</dc:title>
</cp:coreProperties>
</file>